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0352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069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00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dt" idx="3"/>
          </p:nvPr>
        </p:nvSpPr>
        <p:spPr>
          <a:xfrm>
            <a:off x="4278240" y="-360"/>
            <a:ext cx="32400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ftr" idx="4"/>
          </p:nvPr>
        </p:nvSpPr>
        <p:spPr>
          <a:xfrm>
            <a:off x="0" y="10154880"/>
            <a:ext cx="32400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 type="sldNum" idx="5"/>
          </p:nvPr>
        </p:nvSpPr>
        <p:spPr>
          <a:xfrm>
            <a:off x="4278240" y="10154880"/>
            <a:ext cx="32400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7CD25-9D8F-4736-9C33-57A27086E2E4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"/>
          <p:cNvSpPr/>
          <p:nvPr/>
        </p:nvSpPr>
        <p:spPr>
          <a:xfrm>
            <a:off x="755640" y="5078520"/>
            <a:ext cx="60436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32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34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36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38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40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42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44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46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48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50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"/>
          <p:cNvSpPr/>
          <p:nvPr/>
        </p:nvSpPr>
        <p:spPr>
          <a:xfrm>
            <a:off x="755640" y="5078520"/>
            <a:ext cx="60436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18" name=""/>
          <p:cNvSpPr/>
          <p:nvPr/>
        </p:nvSpPr>
        <p:spPr>
          <a:xfrm>
            <a:off x="755640" y="5078520"/>
            <a:ext cx="60436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20" name=""/>
          <p:cNvSpPr/>
          <p:nvPr/>
        </p:nvSpPr>
        <p:spPr>
          <a:xfrm>
            <a:off x="755640" y="5078520"/>
            <a:ext cx="60436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3240" cy="3976560"/>
          </a:xfrm>
          <a:prstGeom prst="rect">
            <a:avLst/>
          </a:prstGeom>
          <a:ln w="0">
            <a:noFill/>
          </a:ln>
        </p:spPr>
      </p:sp>
      <p:sp>
        <p:nvSpPr>
          <p:cNvPr id="122" name=""/>
          <p:cNvSpPr/>
          <p:nvPr/>
        </p:nvSpPr>
        <p:spPr>
          <a:xfrm>
            <a:off x="755640" y="5078520"/>
            <a:ext cx="60166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3240" cy="3976560"/>
          </a:xfrm>
          <a:prstGeom prst="rect">
            <a:avLst/>
          </a:prstGeom>
          <a:ln w="0">
            <a:noFill/>
          </a:ln>
        </p:spPr>
      </p:sp>
      <p:sp>
        <p:nvSpPr>
          <p:cNvPr id="124" name=""/>
          <p:cNvSpPr/>
          <p:nvPr/>
        </p:nvSpPr>
        <p:spPr>
          <a:xfrm>
            <a:off x="755640" y="5078520"/>
            <a:ext cx="60166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3240" cy="3976560"/>
          </a:xfrm>
          <a:prstGeom prst="rect">
            <a:avLst/>
          </a:prstGeom>
          <a:ln w="0">
            <a:noFill/>
          </a:ln>
        </p:spPr>
      </p:sp>
      <p:sp>
        <p:nvSpPr>
          <p:cNvPr id="126" name=""/>
          <p:cNvSpPr/>
          <p:nvPr/>
        </p:nvSpPr>
        <p:spPr>
          <a:xfrm>
            <a:off x="755640" y="5078520"/>
            <a:ext cx="60166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3240" cy="3976560"/>
          </a:xfrm>
          <a:prstGeom prst="rect">
            <a:avLst/>
          </a:prstGeom>
          <a:ln w="0">
            <a:noFill/>
          </a:ln>
        </p:spPr>
      </p:sp>
      <p:sp>
        <p:nvSpPr>
          <p:cNvPr id="128" name=""/>
          <p:cNvSpPr/>
          <p:nvPr/>
        </p:nvSpPr>
        <p:spPr>
          <a:xfrm>
            <a:off x="755640" y="5078520"/>
            <a:ext cx="60166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30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4DEF9-E92F-407D-A16F-7FB3D2B6F8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29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36680"/>
            <a:ext cx="9029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0D976-A267-4FF9-90BC-058ED124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036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3668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0360" y="403668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90A73-78B8-48B9-8EE0-75365AF2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56440" y="176796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9600" y="176796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3668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56440" y="403668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9600" y="403668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8AE88-B2B7-401F-8E5A-CB22E18C5D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29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E34B3-F7B0-46F7-8041-709C46B4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29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68DDB-3F65-4BD8-8BCE-79682D15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6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0360" y="1767960"/>
            <a:ext cx="4406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9C077-5ACE-4603-8EEE-2D2ADF15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DC4BC-147F-456B-B21B-379C1DC8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95200"/>
            <a:ext cx="902952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42700-D76D-4024-8935-19030776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0360" y="1767960"/>
            <a:ext cx="4406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3668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44D77-EC3D-43B0-9AB8-55B196CE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6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036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0360" y="403668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97839-94EF-4247-8754-C5E13405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036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36680"/>
            <a:ext cx="9029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3F9C9-4787-4424-BD2A-F401FF3B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29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920" y="7046640"/>
            <a:ext cx="230652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2 septembre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891280" y="7046640"/>
            <a:ext cx="230652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67325-3A1B-498F-9F1C-D52D7A15F5DA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1280" y="0"/>
            <a:ext cx="1800" cy="7559640"/>
          </a:xfrm>
          <a:prstGeom prst="line">
            <a:avLst/>
          </a:prstGeom>
          <a:ln cap="sq" w="72000">
            <a:solidFill>
              <a:srgbClr val="ff95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47280" y="3384720"/>
            <a:ext cx="907092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Panneaux d’affichage dynamique et To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46800" y="144360"/>
            <a:ext cx="2689200" cy="1079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20720" y="4680000"/>
            <a:ext cx="8783640" cy="1440"/>
          </a:xfrm>
          <a:prstGeom prst="line">
            <a:avLst/>
          </a:prstGeom>
          <a:ln cap="sq"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9280" y="2952720"/>
            <a:ext cx="8640720" cy="1440"/>
          </a:xfrm>
          <a:prstGeom prst="line">
            <a:avLst/>
          </a:prstGeom>
          <a:ln cap="sq"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00360" y="3816360"/>
            <a:ext cx="640872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20720" y="1008000"/>
            <a:ext cx="8724960" cy="490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7CA20-93DD-47CE-AD97-0DB57C30A3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58920" y="944640"/>
            <a:ext cx="7561080" cy="567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E3D16-6A11-4C79-8937-B24F9943EAC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12680" y="760320"/>
            <a:ext cx="8053560" cy="604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06BBC-1228-4001-AF8E-010EFBA8CA8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55600" y="866880"/>
            <a:ext cx="7767720" cy="582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E47A1-A529-49E4-AB87-D897187D9F5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82600" y="1609560"/>
            <a:ext cx="7715160" cy="434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7C047-A263-49A3-8C68-6C4DA2EFC16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30280" y="1749600"/>
            <a:ext cx="7218360" cy="406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64CAD-D775-48F1-B047-EB7DB9A10EE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47640" y="1152360"/>
            <a:ext cx="2772000" cy="4927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rot="10800000">
            <a:off x="5688000" y="2139120"/>
            <a:ext cx="3240000" cy="182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A6449-95DA-43A1-AFD0-352016183EF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20720" y="647640"/>
            <a:ext cx="5040360" cy="106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264360" y="647640"/>
            <a:ext cx="3024000" cy="3597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57080" y="2038320"/>
            <a:ext cx="3635640" cy="2425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264360" y="4464000"/>
            <a:ext cx="307980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738360" y="5002200"/>
            <a:ext cx="3509640" cy="147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8118C-E9BF-4CC6-A95F-849D03BA7E6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92000" y="515880"/>
            <a:ext cx="2332080" cy="2076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23960" y="2824200"/>
            <a:ext cx="3238560" cy="3727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819680" y="360360"/>
            <a:ext cx="3840120" cy="2303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176720" y="2917800"/>
            <a:ext cx="5143320" cy="754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4896000" y="4005360"/>
            <a:ext cx="407664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4967280" y="6416640"/>
            <a:ext cx="3932280" cy="63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7B961-A4D7-4840-9D23-90CF8F88EB8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 rot="5400000">
            <a:off x="-333720" y="1775880"/>
            <a:ext cx="6148440" cy="3459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5400000">
            <a:off x="4130280" y="1823760"/>
            <a:ext cx="6145200" cy="345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9E194-5472-4AB9-80D7-AEFCBBC2183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03280" y="144360"/>
            <a:ext cx="9066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36720" y="1944720"/>
            <a:ext cx="8783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950e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771640" y="755640"/>
            <a:ext cx="4535640" cy="60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D3CA8-66E3-4E19-B4EB-476C7898F63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20720" y="792000"/>
            <a:ext cx="5291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81200" y="1494000"/>
            <a:ext cx="8516880" cy="45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B5188-D26B-4DAF-B113-861DD6F238F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19160" y="765000"/>
            <a:ext cx="8042400" cy="603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4D86C-55EE-445A-BCAE-939EB5CD36E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50880" y="431640"/>
            <a:ext cx="4605480" cy="2590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543640" y="431640"/>
            <a:ext cx="3655800" cy="6500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47640" y="3270240"/>
            <a:ext cx="4552920" cy="256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84552-A5E5-417F-B4DF-8927677B2DC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08200" y="1400040"/>
            <a:ext cx="8462880" cy="475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6C9E4-C620-4B20-882E-0FC5BF5E9A9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84360" y="1152360"/>
            <a:ext cx="2597040" cy="4618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75280" y="1152360"/>
            <a:ext cx="2570400" cy="45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EBB52-4049-4785-B290-7EEF7F63D8E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16120" y="1405080"/>
            <a:ext cx="8448480" cy="475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A25A7-34AC-45B3-9DBD-787D8A70BAE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00000" y="1452600"/>
            <a:ext cx="8278920" cy="46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00070-7CB1-47BD-98C5-ECC1CCFBA75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09:22:00Z</dcterms:created>
  <dc:creator/>
  <dc:description/>
  <dc:language>en-US</dc:language>
  <cp:lastModifiedBy/>
  <dcterms:modified xsi:type="dcterms:W3CDTF">2016-09-23T10:13:47Z</dcterms:modified>
  <cp:revision>22</cp:revision>
  <dc:subject/>
  <dc:title/>
</cp:coreProperties>
</file>